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580D-A804-4636-9364-1D9E07EA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3EAB-097D-4EE6-BB02-F71F0E14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C03-92E8-4F3A-B821-6522131B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7C9F-6E29-4F2C-AAD1-06E420FF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09E-D6E0-4E04-B0D2-1B148497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795-B116-47C5-8140-CA48D693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3D1-954A-4A48-B292-D27DADBB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106-625C-4953-B207-27AFDB5A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3B3D-CF9B-44A5-BB6E-7410D8FF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621E-F373-429F-B374-0B9F2E8D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84C-990D-426E-BC9E-4D129A08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04C-654A-4138-9F64-3B0BB388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D067-3727-4869-A298-35B7655F63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14 Near and F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6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et’s do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284720" y="333360"/>
            <a:ext cx="4535280" cy="3402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042920" y="3573360"/>
            <a:ext cx="5316480" cy="15242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Where's your hom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Is it far from the school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16000" y="5445000"/>
            <a:ext cx="31449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No. It's near the schoo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916360" y="1989000"/>
            <a:ext cx="338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ne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260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80000" y="549360"/>
            <a:ext cx="3024000" cy="12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ff"/>
                </a:solidFill>
                <a:latin typeface="Arial"/>
              </a:rPr>
              <a:t>schoo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4920" y="2565000"/>
            <a:ext cx="2243160" cy="12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11280" y="5300640"/>
            <a:ext cx="792144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宋体"/>
              </a:rPr>
              <a:t>Li Ming is near the school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700360" y="2205000"/>
            <a:ext cx="33116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宋体"/>
              </a:rPr>
              <a:t>f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1962000"/>
            <a:ext cx="6120000" cy="458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71280" y="5157720"/>
            <a:ext cx="2016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fa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16000" y="549360"/>
            <a:ext cx="7056360" cy="103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宋体"/>
              </a:rPr>
              <a:t>Li ming is far from school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宋体"/>
              <a:ea typeface="宋体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1557360"/>
            <a:ext cx="2160360" cy="0"/>
          </a:xfrm>
          <a:prstGeom prst="line">
            <a:avLst/>
          </a:prstGeom>
          <a:ln w="540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6524640"/>
            <a:ext cx="287280" cy="333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916280"/>
            <a:ext cx="358920" cy="360360"/>
          </a:xfrm>
          <a:prstGeom prst="star5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5805360"/>
            <a:ext cx="47448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64000" y="1125360"/>
            <a:ext cx="1789200" cy="81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school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68360" y="3068640"/>
            <a:ext cx="4032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far fr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97 0.00254 C 0.04948 -0.00764 0.02483 0.00046 0.10191 -0.0007 C 0.15538 -0.00139 0.20868 -0.00185 0.26215 -0.00232 C 0.2724 -0.00324 0.28108 -0.00463 0.29097 -0.00694 C 0.29653 -0.00833 0.30781 -0.01018 0.30781 -0.01018 C 0.35625 -0.03169 0.30538 -0.00972 0.45243 -0.01342 C 0.48455 -0.01434 0.51667 -0.01712 0.54879 -0.01828 C 0.54028 -0.05205 0.54774 -0.09022 0.54514 -0.12584 C 0.54427 -0.2105 0.54288 -0.23364 0.54514 -0.31044 C 0.54549 -0.32131 0.54879 -0.33172 0.55 -0.34259 C 0.55087 -0.34953 0.55365 -0.36341 0.55365 -0.36341 C 0.55504 -0.38099 0.55903 -0.39626 0.56215 -0.41314 C 0.56024 -0.48925 0.56233 -0.4409 0.55729 -0.47421 C 0.5566 -0.49757 0.55556 -0.51747 0.55365 -0.53991 C 0.5526 -0.5635 0.54896 -0.63845 0.55365 -0.64423 C 0.56806 -0.66227 0.59306 -0.64423 0.61267 -0.64423 E">
                                      <p:cBhvr>
                                        <p:cTn id="5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372360" y="4005360"/>
            <a:ext cx="780840" cy="1198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1297080" cy="865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27280" y="188640"/>
            <a:ext cx="3322440" cy="1143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about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380360" y="3933720"/>
            <a:ext cx="1365120" cy="6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zo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79640" y="1413000"/>
            <a:ext cx="136836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choo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386064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libr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Is the library far from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23744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en and wat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08:37:14Z</dcterms:created>
  <dc:creator/>
  <dc:description/>
  <dc:language>en-US</dc:language>
  <cp:lastModifiedBy/>
  <dcterms:modified xsi:type="dcterms:W3CDTF">2018-08-18T03:12:58Z</dcterms:modified>
  <cp:revision>20</cp:revision>
  <dc:subject/>
  <dc:title/>
</cp:coreProperties>
</file>